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27D6-C119-48FD-B293-BDBE8442BB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F1F0-5AA7-41E7-81FE-1E6EEB11B8B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1EF-6C1D-42E4-9BBD-EE386DBD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7EC-5E9C-4530-9054-7723D2C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BAB-7D37-4FE5-9844-AE05D78D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D0A-34B2-4012-BC69-CB5E4E81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982E-D877-4B63-8C37-5ECACD09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CFA2-8249-4002-BDA4-6BA133F1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AE78-656E-49F9-B7AC-92712D86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2EF-9544-407B-BA9C-6E2775A6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1D00-EF7B-457F-9E5A-9A3B2CF2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FC22-F1DC-4D04-B721-18C218AF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DFE2-5DD1-4A63-8985-F1574CB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2A9-19CB-46CD-8162-1CED5901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4387-96D4-445D-8A5D-1F124A96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6AC2-CCC4-49A1-A3C4-7B1F0DB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6AD9-434A-44FF-B278-21C8BDB3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9CF3-640A-4185-A9BF-F6DD1BC4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CB30-3FB8-4037-82E1-68CE47F4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B110-5D0A-4DEA-A7F9-9E6FC4D8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CF4C-8869-47C8-9237-92E34421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1388-F9B4-40E5-96FB-EC4765B7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A888-2658-40A3-878B-6BACD60D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9203-1046-4746-9B6D-C5F8E017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ABB-CD38-416F-B35B-45D1F423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9C8B-C531-485A-BC7D-A12D3DF2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0063-7156-445A-824F-A2E49DB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73C8-4318-47BB-904E-E804085D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A985-EBA3-4EFA-AA51-1AEC1693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78E5-1FFE-4614-8720-E14B4BF5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EA58-7313-440A-9D3D-6E55B9DD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9038-F29E-4995-8217-5E2D70C6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FF825-0567-4D61-8E27-6D83AAD9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E520-4129-4313-8C2E-87AE64CE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9E1C-F4F6-4538-869D-9418E8A3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19D-F8AE-4019-94F2-C2D846B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60CE-1692-4462-BDDB-84710F87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00604-B7BC-472D-B8DC-2B0DA9A2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C581-10C6-4CA2-8391-F1A5355D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2A41-8DF8-4449-A5F0-519CA81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114C9-6E46-42ED-A1C8-E34E7F06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C2DC9-5F42-4BA8-8ADA-B4BE422C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D838-E0FE-4916-8534-2358A471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BBD2-419B-4153-B65E-169A709A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F5FB-128B-4ECC-A068-97539F14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CB34D-5810-4356-9EEA-4825735D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309-21B0-4576-8ACF-31EC96F2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7E5A-D2CF-4B51-9730-D4DEAFAF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3DC9A-8153-4709-ACD2-09666D29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3EB41-75EA-48AC-8662-BB009D0F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CF172-26B6-49AE-AA48-C8D5FDB9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CBBAA-5F76-4584-A0A8-3C73DC45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06FF-11A5-43E6-9A61-F1276F54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EEF7-5792-4752-984A-DFAB490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6B475-22A3-4485-B212-E8264F3D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6014-DD40-4322-B709-BA36334B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CF175-0C88-4FF6-99FF-BCEE311B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102-1025-4E71-BB5D-10A09148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22EAA-65BF-467B-936B-0EE03311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1D4DD-BBAD-4508-B72C-60B3E947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2A3D7-3E8B-43DD-9DCA-C6796BD7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5AD7C-0C7B-428C-BABF-03DE9241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B2A8C-876E-4A45-A048-8C0D1B80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5AFC3-EB0F-4746-B608-3E983697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4B6A-1B57-455E-B8F6-E89820D4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D69B-57D8-431C-8B3F-88B91E43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6EFA-08B1-4058-B3D3-CE699BC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1BD68-33B8-4EB9-A3FE-5B6202C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392-36E2-4D38-B181-F86E0B5B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B4F9-AF3C-4EA2-8075-E010F652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6448E-6001-4C46-A861-9070B6DF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429E-54CB-408B-8702-DAA8C035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EE0-861F-4733-8B2E-68DEA134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47A-4051-4ED2-9EF9-ACDA5533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A5A7-453C-4D23-803E-CDD334451DAC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C44E-EFFE-4545-943D-C5BF47F3C6D9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1A33-065D-4822-8ABB-CF268DCEE97F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374B-5189-4181-BADD-2B09C2F7E8F5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E58-BF6F-436D-82AF-0CE3454A26D0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DFB-AA47-4A60-B3B3-35E23FA4FA6F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6880"/>
            <a:ext cx="6991200" cy="2438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oi, j’a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oi, j’ad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https://encrypted-tbn1.google.com/images?q=tbn:ANd9GcSiK4b0fKH5o42k4I6n9uirI5q1qoMYNnLEUkRF1H5E2cYMXNtd"/>
          <p:cNvPicPr/>
          <p:nvPr/>
        </p:nvPicPr>
        <p:blipFill>
          <a:blip r:embed="rId2"/>
          <a:stretch/>
        </p:blipFill>
        <p:spPr>
          <a:xfrm>
            <a:off x="1981080" y="685800"/>
            <a:ext cx="2219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Les verb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ma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dessi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Content Placeholder 6" descr="http://t3.gstatic.com/images?q=tbn:ANd9GcShLp7ujqCnTaj9zMM-cgUm3NfzUajQ-R-vZpwJmZK2ozdi9OA4"/>
          <p:cNvPicPr/>
          <p:nvPr/>
        </p:nvPicPr>
        <p:blipFill>
          <a:blip r:embed="rId1"/>
          <a:stretch/>
        </p:blipFill>
        <p:spPr>
          <a:xfrm>
            <a:off x="1239840" y="25639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308" name="Content Placeholder 7" descr="http://t0.gstatic.com/images?q=tbn:ANd9GcRq97lBt5rsmA_qAiHMT2oDdPrciOPiFGBxRPE0Ckj_zXuljyTr"/>
          <p:cNvPicPr/>
          <p:nvPr/>
        </p:nvPicPr>
        <p:blipFill>
          <a:blip r:embed="rId2"/>
          <a:stretch/>
        </p:blipFill>
        <p:spPr>
          <a:xfrm>
            <a:off x="5380200" y="2598840"/>
            <a:ext cx="25714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écouter de la mus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Content Placeholder 6" descr="http://t2.gstatic.com/images?q=tbn:ANd9GcThuJzY5jRGb9jo-fKHrzW1iicOBhquBcN9u8y4-OifrpxoG2xEGA"/>
          <p:cNvPicPr/>
          <p:nvPr/>
        </p:nvPicPr>
        <p:blipFill>
          <a:blip r:embed="rId1"/>
          <a:stretch/>
        </p:blipFill>
        <p:spPr>
          <a:xfrm>
            <a:off x="1509840" y="230652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313" name="Content Placeholder 7" descr="http://t3.gstatic.com/images?q=tbn:ANd9GcT7LBc3OnahiTOP1A6hGQXTGyvJS7_wIkB1jGdJpYA6dF6MuwaV"/>
          <p:cNvPicPr/>
          <p:nvPr/>
        </p:nvPicPr>
        <p:blipFill>
          <a:blip r:embed="rId2"/>
          <a:stretch/>
        </p:blipFill>
        <p:spPr>
          <a:xfrm>
            <a:off x="5181480" y="3733920"/>
            <a:ext cx="27338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téléphoner (à des ami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chan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Content Placeholder 6" descr="http://t3.gstatic.com/images?q=tbn:ANd9GcQvZ6v9SSrdh-UE7AypgoHwfnL455OQGb4CVExP4mMYcqD1FtLO"/>
          <p:cNvPicPr/>
          <p:nvPr/>
        </p:nvPicPr>
        <p:blipFill>
          <a:blip r:embed="rId1"/>
          <a:stretch/>
        </p:blipFill>
        <p:spPr>
          <a:xfrm>
            <a:off x="1295280" y="3581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318" name="Content Placeholder 7" descr="http://t0.gstatic.com/images?q=tbn:ANd9GcTa1oogNHt1JeHFdSh1KDvXoOcbdNQvao7NOPTWf7_vrIFhoUp4"/>
          <p:cNvPicPr/>
          <p:nvPr/>
        </p:nvPicPr>
        <p:blipFill>
          <a:blip r:embed="rId2"/>
          <a:stretch/>
        </p:blipFill>
        <p:spPr>
          <a:xfrm>
            <a:off x="5029200" y="3505320"/>
            <a:ext cx="32288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surfer l’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envoyer un e-m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Content Placeholder 6" descr="http://t1.gstatic.com/images?q=tbn:ANd9GcSnrZqXsWH6CG_TCMO8jVVCBFaOjZHX8LPYdZeEFWSUrTxfBpQxOg"/>
          <p:cNvPicPr/>
          <p:nvPr/>
        </p:nvPicPr>
        <p:blipFill>
          <a:blip r:embed="rId1"/>
          <a:stretch/>
        </p:blipFill>
        <p:spPr>
          <a:xfrm>
            <a:off x="1373040" y="2455920"/>
            <a:ext cx="2210040" cy="206676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7" descr="http://t0.gstatic.com/images?q=tbn:ANd9GcQ3PXp8JqnzU8M43ldq9gClpOaWo_rqnDjO6432N78rGkbvXrO8"/>
          <p:cNvPicPr/>
          <p:nvPr/>
        </p:nvPicPr>
        <p:blipFill>
          <a:blip r:embed="rId2"/>
          <a:stretch/>
        </p:blipFill>
        <p:spPr>
          <a:xfrm>
            <a:off x="5370480" y="26082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envoyer un SMS/un tex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dorm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Content Placeholder 6" descr="http://t1.gstatic.com/images?q=tbn:ANd9GcRhichO9uWujHmhWebhEHTJfk3hUy2J-4gfIHj_cxEQTlIG5O85"/>
          <p:cNvPicPr/>
          <p:nvPr/>
        </p:nvPicPr>
        <p:blipFill>
          <a:blip r:embed="rId1"/>
          <a:stretch/>
        </p:blipFill>
        <p:spPr>
          <a:xfrm>
            <a:off x="1192320" y="2602080"/>
            <a:ext cx="2571480" cy="1771560"/>
          </a:xfrm>
          <a:prstGeom prst="rect">
            <a:avLst/>
          </a:prstGeom>
          <a:ln w="0">
            <a:noFill/>
          </a:ln>
        </p:spPr>
      </p:pic>
      <p:pic>
        <p:nvPicPr>
          <p:cNvPr id="328" name="Content Placeholder 7" descr="http://t3.gstatic.com/images?q=tbn:ANd9GcTxJi5rUKzyWDGWlDhwoFe1-m2U8CC41a531WPtudyEKyyH0pl0"/>
          <p:cNvPicPr/>
          <p:nvPr/>
        </p:nvPicPr>
        <p:blipFill>
          <a:blip r:embed="rId2"/>
          <a:stretch/>
        </p:blipFill>
        <p:spPr>
          <a:xfrm>
            <a:off x="5394240" y="2589120"/>
            <a:ext cx="25434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étudi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par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Content Placeholder 6" descr="http://www.annicksaudoyer.be/wp-content/2011/06/blocus.jpg"/>
          <p:cNvPicPr/>
          <p:nvPr/>
        </p:nvPicPr>
        <p:blipFill>
          <a:blip r:embed="rId1"/>
          <a:stretch/>
        </p:blipFill>
        <p:spPr>
          <a:xfrm>
            <a:off x="573120" y="1868400"/>
            <a:ext cx="3809880" cy="3238560"/>
          </a:xfrm>
          <a:prstGeom prst="rect">
            <a:avLst/>
          </a:prstGeom>
          <a:ln w="0">
            <a:noFill/>
          </a:ln>
        </p:spPr>
      </p:pic>
      <p:pic>
        <p:nvPicPr>
          <p:cNvPr id="333" name="Content Placeholder 7" descr="http://2.bp.blogspot.com/-vUNKTg5ZVPk/T2BQlatLkHI/AAAAAAAAA-w/uyLz8Qyy5E4/s1600/parler.jpg"/>
          <p:cNvPicPr/>
          <p:nvPr/>
        </p:nvPicPr>
        <p:blipFill>
          <a:blip r:embed="rId2"/>
          <a:stretch/>
        </p:blipFill>
        <p:spPr>
          <a:xfrm>
            <a:off x="5541840" y="2363760"/>
            <a:ext cx="2248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regarder la télé(phon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337" name="Content Placeholder 6" descr="http://t3.gstatic.com/images?q=tbn:ANd9GcTmbHSINo4xd567p_N_3DJLgQhxGq1ja4TsTWwRjjd5ZId8Toj0"/>
          <p:cNvPicPr/>
          <p:nvPr/>
        </p:nvPicPr>
        <p:blipFill>
          <a:blip r:embed="rId1"/>
          <a:stretch/>
        </p:blipFill>
        <p:spPr>
          <a:xfrm>
            <a:off x="1338120" y="248436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644720" y="151740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Les obje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chocolat 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s frites (f p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Content Placeholder 7" descr="https://encrypted-tbn2.google.com/images?q=tbn:ANd9GcSU0wJLW2qGybV6QwrFuZJXl6dwI0bz7Qw-1yolwY3Yn5bJnERF"/>
          <p:cNvPicPr/>
          <p:nvPr/>
        </p:nvPicPr>
        <p:blipFill>
          <a:blip r:embed="rId1"/>
          <a:stretch/>
        </p:blipFill>
        <p:spPr>
          <a:xfrm>
            <a:off x="762120" y="2743200"/>
            <a:ext cx="2833560" cy="2668680"/>
          </a:xfrm>
          <a:prstGeom prst="rect">
            <a:avLst/>
          </a:prstGeom>
          <a:ln w="0">
            <a:noFill/>
          </a:ln>
        </p:spPr>
      </p:pic>
      <p:pic>
        <p:nvPicPr>
          <p:cNvPr id="268" name="Content Placeholder 8" descr="https://encrypted-tbn3.google.com/images?q=tbn:ANd9GcQ96StebENoFRAgG-Xg7n4klArneu0uC5rpxp4kwaz0utX0FE7hXw"/>
          <p:cNvPicPr/>
          <p:nvPr/>
        </p:nvPicPr>
        <p:blipFill>
          <a:blip r:embed="rId2"/>
          <a:stretch/>
        </p:blipFill>
        <p:spPr>
          <a:xfrm>
            <a:off x="5334120" y="2971800"/>
            <a:ext cx="27208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a glace (f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Un des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Content Placeholder 6" descr="https://encrypted-tbn3.google.com/images?q=tbn:ANd9GcQ90kQK0WAkmU8yMHHRb6mvKExY7yYpAiZ6ZExu8LaSaCsZ9KRWhQ"/>
          <p:cNvPicPr/>
          <p:nvPr/>
        </p:nvPicPr>
        <p:blipFill>
          <a:blip r:embed="rId1"/>
          <a:stretch/>
        </p:blipFill>
        <p:spPr>
          <a:xfrm>
            <a:off x="990720" y="2514600"/>
            <a:ext cx="2923920" cy="2590920"/>
          </a:xfrm>
          <a:prstGeom prst="rect">
            <a:avLst/>
          </a:prstGeom>
          <a:ln w="0">
            <a:noFill/>
          </a:ln>
        </p:spPr>
      </p:pic>
      <p:pic>
        <p:nvPicPr>
          <p:cNvPr id="273" name="Content Placeholder 7" descr="https://encrypted-tbn1.google.com/images?q=tbn:ANd9GcRbIFmQGhG5euAfnAz1ku06keNpdzKeMBf7PzygO8lPp5G-h8F-oA"/>
          <p:cNvPicPr/>
          <p:nvPr/>
        </p:nvPicPr>
        <p:blipFill>
          <a:blip r:embed="rId2"/>
          <a:stretch/>
        </p:blipFill>
        <p:spPr>
          <a:xfrm>
            <a:off x="5656320" y="235440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’école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journal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Content Placeholder 6" descr="https://encrypted-tbn0.google.com/images?q=tbn:ANd9GcSll70Ep4QGDRHRPRKoeA3gLb1r4qjFN1wnvJxEVCpiIUhd6YQL"/>
          <p:cNvPicPr/>
          <p:nvPr/>
        </p:nvPicPr>
        <p:blipFill>
          <a:blip r:embed="rId1"/>
          <a:stretch/>
        </p:blipFill>
        <p:spPr>
          <a:xfrm>
            <a:off x="1066680" y="2895480"/>
            <a:ext cx="2795760" cy="2256120"/>
          </a:xfrm>
          <a:prstGeom prst="rect">
            <a:avLst/>
          </a:prstGeom>
          <a:ln w="0">
            <a:noFill/>
          </a:ln>
        </p:spPr>
      </p:pic>
      <p:pic>
        <p:nvPicPr>
          <p:cNvPr id="278" name="Content Placeholder 7" descr="https://encrypted-tbn1.google.com/images?q=tbn:ANd9GcRpDxbGpMTNLYjF-hosFo99BomEB-9AE2uSnQkbm3iyAmeLGIkN"/>
          <p:cNvPicPr/>
          <p:nvPr/>
        </p:nvPicPr>
        <p:blipFill>
          <a:blip r:embed="rId2"/>
          <a:stretch/>
        </p:blipFill>
        <p:spPr>
          <a:xfrm>
            <a:off x="5775480" y="2590920"/>
            <a:ext cx="230184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ro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7960" y="5181120"/>
            <a:ext cx="404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baladeur (m)/Les écouteurs (m p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Content Placeholder 6" descr="http://www.technobuffalo.com/wp-content/uploads/2012/05/harry-potter-and-the-sorcerers-stone.jpg"/>
          <p:cNvPicPr/>
          <p:nvPr/>
        </p:nvPicPr>
        <p:blipFill>
          <a:blip r:embed="rId1"/>
          <a:stretch/>
        </p:blipFill>
        <p:spPr>
          <a:xfrm>
            <a:off x="1049400" y="20588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https://encrypted-tbn2.google.com/images?q=tbn:ANd9GcT-NdzlA9MkOumP8spN9s_cFKGUYapYiuCSFR0W8bZ_BazzYkcEag"/>
          <p:cNvPicPr/>
          <p:nvPr/>
        </p:nvPicPr>
        <p:blipFill>
          <a:blip r:embed="rId2"/>
          <a:stretch/>
        </p:blipFill>
        <p:spPr>
          <a:xfrm>
            <a:off x="5562720" y="2133720"/>
            <a:ext cx="25016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ea0b0"/>
                </a:solidFill>
                <a:latin typeface="Arial"/>
              </a:rPr>
              <a:t>La musique moder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a musique class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Content Placeholder 6" descr="https://encrypted-tbn2.google.com/images?q=tbn:ANd9GcTTELGoO5JL7VADd18FPdYcH9p3Qxd__3DGqIl5V7xTQnu-7EyWbw"/>
          <p:cNvPicPr/>
          <p:nvPr/>
        </p:nvPicPr>
        <p:blipFill>
          <a:blip r:embed="rId1"/>
          <a:stretch/>
        </p:blipFill>
        <p:spPr>
          <a:xfrm>
            <a:off x="1228680" y="2550960"/>
            <a:ext cx="2962440" cy="25545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7" descr="https://encrypted-tbn1.google.com/images?q=tbn:ANd9GcQlrgujfnd2Ie9Jrl3PBsbu0iTyxfydsHoXFvIpt_aIX3l_It6JTA"/>
          <p:cNvPicPr/>
          <p:nvPr/>
        </p:nvPicPr>
        <p:blipFill>
          <a:blip r:embed="rId2"/>
          <a:stretch/>
        </p:blipFill>
        <p:spPr>
          <a:xfrm>
            <a:off x="5584680" y="2362320"/>
            <a:ext cx="27212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Les matières à l’éco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s mathémat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s mat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 frança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Content Placeholder 6" descr="http://t1.gstatic.com/images?q=tbn:ANd9GcRyawfqnjsojGeP8Yk2R7AemG0wHSzIQlNzRz8IxSmNedcr3anB"/>
          <p:cNvPicPr/>
          <p:nvPr/>
        </p:nvPicPr>
        <p:blipFill>
          <a:blip r:embed="rId1"/>
          <a:stretch/>
        </p:blipFill>
        <p:spPr>
          <a:xfrm>
            <a:off x="1090440" y="2666880"/>
            <a:ext cx="2948040" cy="2306880"/>
          </a:xfrm>
          <a:prstGeom prst="rect">
            <a:avLst/>
          </a:prstGeom>
          <a:ln w="0">
            <a:noFill/>
          </a:ln>
        </p:spPr>
      </p:pic>
      <p:pic>
        <p:nvPicPr>
          <p:cNvPr id="293" name="Content Placeholder 7" descr="http://u2.u-strasbg.fr/spiral/A1A2/Drapeaux/drapeau%20fran%E7ais%20ventbis.gif"/>
          <p:cNvPicPr/>
          <p:nvPr/>
        </p:nvPicPr>
        <p:blipFill>
          <a:blip r:embed="rId2"/>
          <a:stretch/>
        </p:blipFill>
        <p:spPr>
          <a:xfrm>
            <a:off x="5181480" y="2514600"/>
            <a:ext cx="2778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’anglais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es scienc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Content Placeholder 6" descr="https://encrypted-tbn2.google.com/images?q=tbn:ANd9GcTWcsopk7Jwh2BCLtS5yxqEJjlO_HYcXNXsYAu_XoF_b8PGZSo1"/>
          <p:cNvPicPr/>
          <p:nvPr/>
        </p:nvPicPr>
        <p:blipFill>
          <a:blip r:embed="rId1"/>
          <a:stretch/>
        </p:blipFill>
        <p:spPr>
          <a:xfrm>
            <a:off x="914400" y="2438280"/>
            <a:ext cx="3124080" cy="2533680"/>
          </a:xfrm>
          <a:prstGeom prst="rect">
            <a:avLst/>
          </a:prstGeom>
          <a:ln w="0">
            <a:noFill/>
          </a:ln>
        </p:spPr>
      </p:pic>
      <p:pic>
        <p:nvPicPr>
          <p:cNvPr id="298" name="Content Placeholder 7" descr="https://encrypted-tbn2.google.com/images?q=tbn:ANd9GcRM8o-U_vHTgVbx0CBv1Q6sCu_psJ8alZbaTli1Z-yNqdQxTXxl"/>
          <p:cNvPicPr/>
          <p:nvPr/>
        </p:nvPicPr>
        <p:blipFill>
          <a:blip r:embed="rId2"/>
          <a:stretch/>
        </p:blipFill>
        <p:spPr>
          <a:xfrm>
            <a:off x="5560920" y="2895480"/>
            <a:ext cx="26686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Arial"/>
              </a:rPr>
              <a:t>L’histoire (f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302" name="Content Placeholder 6" descr="https://encrypted-tbn3.google.com/images?q=tbn:ANd9GcS7fpC6qpyL47RCp3Uh4j0bz0keAaMPcc_31qeMwqgNXHUYeWB83g"/>
          <p:cNvPicPr/>
          <p:nvPr/>
        </p:nvPicPr>
        <p:blipFill>
          <a:blip r:embed="rId1"/>
          <a:stretch/>
        </p:blipFill>
        <p:spPr>
          <a:xfrm>
            <a:off x="1424160" y="2401920"/>
            <a:ext cx="2104920" cy="2171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644720" y="151740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4:20:16Z</dcterms:created>
  <dc:creator>Robbie</dc:creator>
  <dc:description/>
  <dc:language>en-US</dc:language>
  <cp:lastModifiedBy>Robbie</cp:lastModifiedBy>
  <dcterms:modified xsi:type="dcterms:W3CDTF">2012-09-16T15:03:14Z</dcterms:modified>
  <cp:revision>1</cp:revision>
  <dc:subject/>
  <dc:title>Qu’est-ce que tu aimes?</dc:title>
</cp:coreProperties>
</file>